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AA31-3D42-46E3-BF2E-03C210F02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FA8D-879F-4C50-AE7F-B6FB49F00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6FCD-CC22-4F95-A67B-027268736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0440-C967-422D-A910-7ACB57BD4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4E56-AEDD-4291-B0E5-0C01C9A39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3AD9-3452-4DAB-B880-4CD4B19A4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9EAB-069C-4444-8D92-6D2C33319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062F-317F-4E22-9F2B-4855B63A1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68B4-7704-453B-A6F6-041113F4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EF0F-590A-4A91-9728-4FB16289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56FA-F7DA-4CB7-BE78-C1FBEA880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6146-DF1B-4AB6-A677-9FDD5D4C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F693-257E-4CC8-82B6-A48FBEC7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56CF-0E3C-44FB-BD86-D0899156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D011-389A-4963-AFF3-28A58DD5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4F62-362D-4569-A132-B8E7F9C2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D615-057A-4447-885F-F8FE9333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540C-E7E7-47BF-9BC9-4005B0BE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9178-D7D9-43AD-8A6E-8FA3FC61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8B78-69DF-42FD-B4FA-DB43D620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ABD8-6FC4-4E64-9A4F-34A91C5E9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pe Intercep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taking no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pe Intercep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x and y ar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s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= the y inter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graph a line in slope intercept fo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location of the y intercept on the y ax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the point with a d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slope’s Rise (up or down depending on if the slope is positive or negativ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slope’s Run (move righ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the new point with a d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1066680" y="1447920"/>
                <a:ext cx="274320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 Box 6"/>
          <p:cNvSpPr/>
          <p:nvPr/>
        </p:nvSpPr>
        <p:spPr>
          <a:xfrm>
            <a:off x="1066680" y="304812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4800600" y="2819520"/>
            <a:ext cx="3772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990720" y="1447920"/>
                <a:ext cx="22096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Text Box 6"/>
          <p:cNvSpPr/>
          <p:nvPr/>
        </p:nvSpPr>
        <p:spPr>
          <a:xfrm>
            <a:off x="1219320" y="3276720"/>
            <a:ext cx="1752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 –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4419720" y="2286000"/>
            <a:ext cx="438156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685800" y="1676520"/>
                <a:ext cx="26668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Text Box 6"/>
          <p:cNvSpPr/>
          <p:nvPr/>
        </p:nvSpPr>
        <p:spPr>
          <a:xfrm>
            <a:off x="762120" y="3124080"/>
            <a:ext cx="52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ve for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 – 4x +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4000680" cy="3619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609480" y="4648320"/>
            <a:ext cx="3124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533520" y="220968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4x                             -4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-4x 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4"/>
              <p:cNvSpPr txBox="1"/>
              <p:nvPr/>
            </p:nvSpPr>
            <p:spPr>
              <a:xfrm>
                <a:off x="609480" y="1371600"/>
                <a:ext cx="381024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Text Box 6"/>
          <p:cNvSpPr/>
          <p:nvPr/>
        </p:nvSpPr>
        <p:spPr>
          <a:xfrm>
            <a:off x="533520" y="2590920"/>
            <a:ext cx="43434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for 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minus 3x from both sides then divide by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8"/>
              <p:cNvSpPr txBox="1"/>
              <p:nvPr/>
            </p:nvSpPr>
            <p:spPr>
              <a:xfrm>
                <a:off x="533520" y="3962520"/>
                <a:ext cx="4038480" cy="19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2" name="Picture 10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8480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23:41:21Z</dcterms:created>
  <dc:creator>Troy Clarke</dc:creator>
  <dc:description/>
  <dc:language>en-US</dc:language>
  <cp:lastModifiedBy>Floyd Stensrud</cp:lastModifiedBy>
  <dcterms:modified xsi:type="dcterms:W3CDTF">2009-11-19T13:54:37Z</dcterms:modified>
  <cp:revision>8</cp:revision>
  <dc:subject/>
  <dc:title>Slope Intercept Form</dc:title>
</cp:coreProperties>
</file>